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B4A-BBC4-4E65-B642-A4E717E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5F8-CB4B-45DD-9D39-50E370A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B48-6CE5-4503-BA8C-0F50E894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9AB-045C-40B2-B1E4-5D48B75F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4CA-F32A-4B85-902A-008A360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136-2504-49EA-A4EE-665D0EB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5B7-6024-4C0A-9CE8-7871090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F2D-7435-4EB1-A8E3-C6273BB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B6B-EA5F-47A0-A5A4-66AC35E1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3FE-6A60-4894-A285-A7A944C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306-28CD-4315-9188-1888D12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1A2-7654-496A-9DFD-D3FC92B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9751-BF4A-412B-8D24-054129E0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Alison Cunningha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Sopho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866" t="0" r="1866" b="0"/>
          <a:stretch/>
        </p:blipFill>
        <p:spPr>
          <a:xfrm>
            <a:off x="3048120" y="1828800"/>
            <a:ext cx="3213000" cy="47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760" y="1142640"/>
            <a:ext cx="51814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124" t="2877" r="3266" b="0"/>
          <a:stretch/>
        </p:blipFill>
        <p:spPr>
          <a:xfrm>
            <a:off x="304920" y="304920"/>
            <a:ext cx="4213080" cy="63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ho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0000"/>
          </a:blip>
          <a:srcRect l="1918" t="3250" r="0" b="3105"/>
          <a:stretch/>
        </p:blipFill>
        <p:spPr>
          <a:xfrm>
            <a:off x="1371600" y="1295280"/>
            <a:ext cx="6454800" cy="500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artn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Hand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3073" r="2041" b="1540"/>
          <a:stretch/>
        </p:blipFill>
        <p:spPr>
          <a:xfrm>
            <a:off x="1066680" y="1523880"/>
            <a:ext cx="7083720" cy="4840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Ghosting and 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749" t="4167" r="4039" b="5867"/>
          <a:stretch/>
        </p:blipFill>
        <p:spPr>
          <a:xfrm>
            <a:off x="1295280" y="1295280"/>
            <a:ext cx="6402600" cy="4341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12000"/>
          </a:blip>
          <a:srcRect l="6000" t="6842" r="3000" b="8348"/>
          <a:stretch/>
        </p:blipFill>
        <p:spPr>
          <a:xfrm>
            <a:off x="1066680" y="1447920"/>
            <a:ext cx="6929640" cy="464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4280" y="1066320"/>
            <a:ext cx="426744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679" t="0" r="1836" b="1318"/>
          <a:stretch/>
        </p:blipFill>
        <p:spPr>
          <a:xfrm>
            <a:off x="228600" y="914400"/>
            <a:ext cx="4329000" cy="564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082" t="2405" r="841" b="2405"/>
          <a:stretch/>
        </p:blipFill>
        <p:spPr>
          <a:xfrm>
            <a:off x="4876920" y="2971800"/>
            <a:ext cx="4032000" cy="31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artn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761" t="9000" r="8146" b="3959"/>
          <a:stretch/>
        </p:blipFill>
        <p:spPr>
          <a:xfrm>
            <a:off x="687240" y="225360"/>
            <a:ext cx="4232520" cy="625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ross-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24:01Z</dcterms:created>
  <dc:creator>bal_aacunningham</dc:creator>
  <dc:description/>
  <dc:language>en-US</dc:language>
  <cp:lastModifiedBy>bal_aacunningham</cp:lastModifiedBy>
  <dcterms:modified xsi:type="dcterms:W3CDTF">2009-05-15T17:08:51Z</dcterms:modified>
  <cp:revision>5</cp:revision>
  <dc:subject/>
  <dc:title>Alison Cunningham Sophomore</dc:title>
</cp:coreProperties>
</file>